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51A-F5DF-4E75-82BC-E1196F80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476-0C84-4E20-8AA9-3D216E23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9CF-C625-47C9-9547-3B1BC872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F1E-27D9-4727-BDD0-D4C7C69F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AD1-A9C3-4C5D-8E3A-E7AB61E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89C-E28A-4409-9D66-582D451D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D35-61A6-480E-8D34-712AE3BF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6D9-FE7E-420A-BCAD-CD552EBB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936-7289-44C0-8694-D15C33E5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1CC-3111-4BE5-90C4-A283B869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FE8-8B3D-4CB8-A034-1069658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2EB-9830-4BC5-86E4-C506513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23E-C275-4AE4-9685-BC2E07B4C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eb.mit.edu/invent/iow/crayons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62720" y="46483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38880" y="5257800"/>
            <a:ext cx="1752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7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#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228600"/>
            <a:ext cx="7467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Kristen ITC"/>
              </a:rPr>
              <a:t>Cray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Kristen ITC"/>
              <a:ea typeface="Kristen ITC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23511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458200" y="5257800"/>
            <a:ext cx="36504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bf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rayon box"/>
          <p:cNvPicPr/>
          <p:nvPr/>
        </p:nvPicPr>
        <p:blipFill>
          <a:blip r:embed="rId1"/>
          <a:stretch/>
        </p:blipFill>
        <p:spPr>
          <a:xfrm>
            <a:off x="228600" y="380988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Hoop boy"/>
          <p:cNvPicPr/>
          <p:nvPr/>
        </p:nvPicPr>
        <p:blipFill>
          <a:blip r:embed="rId2"/>
          <a:stretch/>
        </p:blipFill>
        <p:spPr>
          <a:xfrm>
            <a:off x="6477120" y="30492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Binney &amp; Smith"/>
          <p:cNvPicPr/>
          <p:nvPr/>
        </p:nvPicPr>
        <p:blipFill>
          <a:blip r:embed="rId3"/>
          <a:stretch/>
        </p:blipFill>
        <p:spPr>
          <a:xfrm>
            <a:off x="0" y="0"/>
            <a:ext cx="5105520" cy="212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487692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ward Binney &amp; Harold Sm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cray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5909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9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 Crayola Crayons in the world could circle around the world 4 tim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848720" y="4724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 1903, the first yellow and green box of eight “crayola” crayons appeared, they were an overnigh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 1962 the color “flesh” was changed to the name peach because not everybody's skin color is tha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 1972, fluorescent colors were added to the box of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n February 6, 1996 they produced their 100 billionth Crayola cray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re is now 102 crayons in some boxes of crayon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nventor: Edward Binney &amp; Harold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Edwin Binney &amp;Harold Smith founded Binney &amp; Smi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Inc in New York in the late 180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At first they specialized in industrial colo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At the St.Louis world exhibition in 1902, they won a gold medal for the first dustless ch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uhaus 93"/>
              </a:rPr>
              <a:t>On February 6, 1996 they produced their billionth cray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24Z</dcterms:created>
  <dc:creator>install</dc:creator>
  <dc:description/>
  <dc:language>en-US</dc:language>
  <cp:lastModifiedBy>install</cp:lastModifiedBy>
  <dcterms:modified xsi:type="dcterms:W3CDTF">2011-01-14T16:55:14Z</dcterms:modified>
  <cp:revision>8</cp:revision>
  <dc:subject/>
  <dc:title>Slide 1</dc:title>
</cp:coreProperties>
</file>